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7640-F730-425A-A1AD-CF9E487550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verbs –</a:t>
            </a: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O and HAVE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rbs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nd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y late evening the happy tune doesn’t sound happy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late evening the happy tune doesn’t sound happ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doesn't or don't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 ______ think I can cut it down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esn't or don't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______ think I can cut it dow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 don’t think I can cut it down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on’t think I can cut it dow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ve Verb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ul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se has with the pronouns he, she, and it, or whenever you mean only one person or thing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se have with the pronouns I, you, they and we, or whenever you mean more than one person or thing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has with the pronouns he, she, and it, or whenever you mean only one person or 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have with the pronouns I, you, they and we, or whenever you mean more than one person or 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has or have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 ______ tracked coons in the rain, snow, and hail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has or have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______ tracked coons in the rain, snow, and h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 have tracked coons in the rain, snow, and hail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tracked coons in the rain, snow, and h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has or have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ma _______ a special dinner planned for Billy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has or have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a _______ a special dinner planned for Bil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ma has a special dinner planned for Billy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a has a special dinner planned for Bil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o Verb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ul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se does with the pronouns he, she, and it, or whenever you mean only one person or thing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se do with the pronouns I, you, they and we, or whenever you mean more than one person or thing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oes with the pronouns he, she, and it, or whenever you mean only one person or 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o with the pronouns I, you, they and we, or whenever you mean more than one person or 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hasn't or haven't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gust of wind ________ been through the valley all day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hasn't or haven't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ust of wind ________ been through the valley all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gust of wind hasn’t been through the valley all day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ust of wind hasn’t been through the valley all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hasn't or haven't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blisters ______ broken open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hasn't or haven't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isters ______ broken op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blisters haven’t broken open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isters haven’t broken op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ractice – Number your paper from 1 to 15. Write the correct answer for each of the following item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. Hounds (do, does) hunt best during cool fall nights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– Number your paper from 1 to 15. Write the correct answer for each of the following i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Hounds (do, does) hunt best during cool fall nigh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2. (Do, Does) you know that Billy is a brave young man?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(Do, Does) you know that Billy is a brave young ma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3. The barking (do, does) sound far away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The barking (do, does) sound far aw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4. You (doesn’t, don’t) have to stay out here all day chopping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You (doesn’t, don’t) have to stay out here all day chopp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5. I (doesn’t, don’t)  want to give up, Grandpa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I (doesn’t, don’t)  want to give up, Grandp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6. "No, he (doesn’t, don’t) ," Grandpa sai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"No, he (doesn’t, don’t) ," Grandpa sa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7. There (has, have) never been a more beautiful night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There (has, have) never been a more beautiful ni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8. You (has, have)  to leave the tre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You (has, have)  to leave the tre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9. Raccoons (has, have) many tricks to escape from their captors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Raccoons (has, have) many tricks to escape from their cap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0. You (hasn’t, haven’t) seen Little Ann or Old Dan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 You (hasn’t, haven’t) seen Little Ann or Old Da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1. The ax (hasn’t, haven’t)  left Billy's hands all day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 The ax (hasn’t, haven’t)  left Billy's hands all 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2. The trouble (hasn’t, haven’t) stopped Billy from trying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 The trouble (hasn’t, haven’t) stopped Billy from try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3. Which sentence in the paragraph below contains a mistake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(1) Redbone coonhounds are a medium sized dog. (2) Their coats are a deep red color. (3) They has brown to hazel eyes. (4) Their ears are low and reach nearly to the end of their noses. 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. Which sentence in the paragraph below contains a mista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Redbone coonhounds are a medium sized dog. (2) Their coats are a deep red color. (3) They has brown to hazel eyes. (4) Their ears are low and reach nearly to the end of their nose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4. Which sentence in the paragraph below contains a mistake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(1) Redbones have a deep broad chest and a strong slightly arched back. (2)Their feet has cat-like paws. (3)The medium length tail is slightly bushy.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 Which sentence in the paragraph below contains a mista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Redbones have a deep broad chest and a strong slightly arched back. (2)Their feet has cat-like paws. (3)The medium length tail is slightly bush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5. Which sentence in the paragraph below contains a mistake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(1)  Redbones are agile which help them when hunting in steep, rocky areas. (2) Redbones enjoy swimming. (3) They has a natural instinct for hunting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. Which sentence in the paragraph below contains a mista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 Redbones are agile which help them when hunting in steep, rocky areas. (2) Redbones enjoy swimming. (3) They has a natural instinct for hunt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5. Which sentence in the paragraph below contains a mistake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(1)  Most Redbones are used for coon hunting, but they does track bear, cougar, and bobcats. (2) Most hunters prefer to hunt with a pack of Redbones instead of a single dog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. Which sentence in the paragraph below contains a mista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 Most Redbones are used for coon hunting, but they does track bear, cougar, and bobcats. (2) Most hunters prefer to hunt with a pack of Redbones instead of a single d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do or does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e _________ know that hounds have a good sense of smell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 or does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_________ know that hounds have a good sense of sme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e do know that hounds have a good sense of smell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know that hounds have a good sense of sm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do or does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ind _____ blow more in the river bottom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 or does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 _____ blow more in the river bott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ind does blow more in the river bottom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 does blow more in the river bott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doesn't or don't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y late evening the happy tune _______sound happy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esn't or don't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late evening the happy tune _______sound happ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7E84-BAD9-4742-86CA-99B5BA60E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CFE2-60C4-4FD4-8849-8F62550F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42B0-36F7-40B0-B791-00E81809C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4738-F171-4AA7-B555-D1E58051A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BB48-999C-4D5C-A2F1-6FE78C8AF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2A9A-0ECF-4B57-889D-7CECC334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13C6-1B90-48E4-957B-2070E482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88EA-643B-4F8F-AE62-40CCB8E2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7DDB-3B58-414F-8291-A8B56B3D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0506C-042E-4766-B67C-F048E916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1406-CC8C-4397-8055-68FA011C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24F3-6EBF-45A5-A7BA-0FCC1E14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1E8F-11C3-4623-A188-3BF8C920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D7D1-A53B-478E-BE7E-5074B19A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DE5C-0175-46FE-BBFA-A3736976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2792A-2281-4F8D-9B99-BE360F060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92C0B-A08B-44B4-BD89-DB96F03A4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EEC3-B607-429A-8E7F-77D0C510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EA0F-6B86-46D6-9490-133458CE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DEF9-9C29-4DE3-970E-6AA8641A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E765-731A-4772-86EC-64B0C42C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1EBD-20AB-46AF-8259-24365DB3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C54D-747E-4A01-8319-0F83EF94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2066-7A00-4E0D-9E94-97C89305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9E4F-354B-4FCB-8B56-4F7D4555F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1" marL="653760" indent="-251280">
              <a:spcBef>
                <a:spcPts val="10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2" marL="1005840" indent="-2008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3" marL="1407960" indent="-200880">
              <a:spcBef>
                <a:spcPts val="10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4" marL="1810440" indent="-200880">
              <a:spcBef>
                <a:spcPts val="1001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5" marL="1810440" indent="-200880">
              <a:spcBef>
                <a:spcPts val="1001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6" marL="1810440" indent="-200880">
              <a:spcBef>
                <a:spcPts val="1001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1" marL="653760" indent="-251280">
              <a:spcBef>
                <a:spcPts val="10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2" marL="1005840" indent="-2008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3" marL="1407960" indent="-200880">
              <a:spcBef>
                <a:spcPts val="10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4" marL="1810440" indent="-200880">
              <a:spcBef>
                <a:spcPts val="1001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5" marL="1810440" indent="-200880">
              <a:spcBef>
                <a:spcPts val="1001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6" marL="1810440" indent="-200880">
              <a:spcBef>
                <a:spcPts val="1001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8698-0495-4973-8076-8643F9DB195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The verbs –</a:t>
            </a:r>
            <a:br>
              <a:rPr sz="5700"/>
            </a:b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DO and HAVE 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By late evening the happy tune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doesn’t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ound happy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es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I ______ think I can cut it down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I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don’t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think I can cut it down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Have Verb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</a:rPr>
              <a:t>Rule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Use has with the pronouns he, she, and it, or whenever you mean only one person or thing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Use have with the pronouns I, you, they and we, or whenever you mean more than one person or thing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457200" y="277920"/>
          <a:ext cx="8229600" cy="5817960"/>
        </p:xfrm>
        <a:graphic>
          <a:graphicData uri="http://schemas.openxmlformats.org/drawingml/2006/table">
            <a:tbl>
              <a:tblPr/>
              <a:tblGrid>
                <a:gridCol w="1981080"/>
                <a:gridCol w="1600200"/>
                <a:gridCol w="4648320"/>
              </a:tblGrid>
              <a:tr h="1340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Singular Nouns or </a:t>
                      </a: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Pronoun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Verb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Sentence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98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e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s/</a:t>
                      </a:r>
                      <a:br>
                        <a:rPr sz="3600"/>
                      </a:b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sn't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e hasn't been here all night.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98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Bill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s/</a:t>
                      </a:r>
                      <a:br>
                        <a:rPr sz="3600"/>
                      </a:b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sn't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Billy has to carry a lantern.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679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t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s/</a:t>
                      </a:r>
                      <a:br>
                        <a:rPr sz="3600"/>
                      </a:b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sn't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t has a bright flame that helps Billy see.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228600" y="380880"/>
          <a:ext cx="8610480" cy="5578560"/>
        </p:xfrm>
        <a:graphic>
          <a:graphicData uri="http://schemas.openxmlformats.org/drawingml/2006/table">
            <a:tbl>
              <a:tblPr/>
              <a:tblGrid>
                <a:gridCol w="2286000"/>
                <a:gridCol w="1523880"/>
                <a:gridCol w="4800600"/>
              </a:tblGrid>
              <a:tr h="15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Plural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Nouns or </a:t>
                      </a:r>
                      <a:r>
                        <a:rPr b="1" lang="en-US" sz="28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Pronouns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Verbs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Sentences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ound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/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n't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ounds have a good sense of smell.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5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W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/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n'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We haven't seen this many coon pelts since we were little.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You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/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n'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You have to skin the coon, and dry the pelt.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/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n'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 have to sell the pelts at Grandpa's store.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s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ve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I ______ tracked coons in the rain, snow, and hail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I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have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tracked coons in the rain, snow, and hail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s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ve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Mama _______ a special dinner planned for Billy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Mama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has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a special dinner planned for Billy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Do Verb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</a:rPr>
              <a:t>Rule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Use does with the pronouns he, she, and it, or whenever you mean only one person or thing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Use do with the pronouns I, you, they and we, or whenever you mean more than one person or thing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s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ve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A gust of wind ________ been through the valley all day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A gust of wind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hasn’t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been through the valley all day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s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ve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The blisters ______ broken open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The blisters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haven’t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broken open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Practice – Number your paper from 1 to 15. Write the correct answer for each of the following items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3504960"/>
            <a:ext cx="8229600" cy="26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1. Hounds (do, does) hunt best during cool fall nights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2. (Do, Does) you know that Billy is a brave young man?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3. The barking (do, does) sound far away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4. You (doesn’t, don’t) have to stay out here all day chopping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5. I (doesn’t, don’t)  want to give up, Grandpa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6. "No, he (doesn’t, don’t) ," Grandpa said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304920" y="838080"/>
          <a:ext cx="8229600" cy="5348520"/>
        </p:xfrm>
        <a:graphic>
          <a:graphicData uri="http://schemas.openxmlformats.org/drawingml/2006/table">
            <a:tbl>
              <a:tblPr/>
              <a:tblGrid>
                <a:gridCol w="1981080"/>
                <a:gridCol w="1600200"/>
                <a:gridCol w="4648320"/>
              </a:tblGrid>
              <a:tr h="1827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Singular Nouns or </a:t>
                      </a: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Pronoun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Verb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Sentence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90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es/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esn't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e does his chores before going hunting.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40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Billy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es/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esn't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Billy doesn't like to stop hunting long enough to eat dinner.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9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t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es/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esn't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t doesn't take long to catch three coons.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7. There (has, have) never been a more beautiful night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8. You (has, have)  to leave the tree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9. Raccoons (has, have) many tricks to escape from their captors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10. You (hasn’t, haven’t) seen Little Ann or Old Dan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11. The ax (hasn’t, haven’t)  left Billy's hands all day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12. The trouble (hasn’t, haven’t) stopped Billy from trying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13. Which sentence in the paragraph below contains a mistak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(1) Redbone coonhounds are a medium sized dog. (2) Their coats are a deep red color. (3) They has brown to hazel eyes. (4) Their ears are low and reach nearly to the end of their noses. 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14. Which sentence in the paragraph below contains a mistak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(1) Redbones have a deep broad chest and a strong slightly arched back. (2)Their feet has cat-like paws. (3)The medium length tail is slightly bushy.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15. Which sentence in the paragraph below contains a mistak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(1)  Redbones are agile which help them when hunting in steep, rocky areas. (2) Redbones enjoy swimming. (3) They has a natural instinct for hunting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15. Which sentence in the paragraph below contains a mistak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(1)  Most Redbones are used for coon hunting, but they does track bear, cougar, and bobcats. (2) Most hunters prefer to hunt with a pack of Redbones instead of a single dog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457200" y="838080"/>
          <a:ext cx="8229600" cy="4586400"/>
        </p:xfrm>
        <a:graphic>
          <a:graphicData uri="http://schemas.openxmlformats.org/drawingml/2006/table">
            <a:tbl>
              <a:tblPr/>
              <a:tblGrid>
                <a:gridCol w="1981080"/>
                <a:gridCol w="1600200"/>
                <a:gridCol w="4648320"/>
              </a:tblGrid>
              <a:tr h="1340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Plural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Nouns or </a:t>
                      </a: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Pronoun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Verb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Sentence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8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ound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/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n't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ounds don't bellow unless they have treed a coon.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83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W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/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n't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We do our hunting at night.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/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n't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 do the cooking over a hot fire.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es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229600" cy="32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We _________ know that hounds have a good sense of smell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We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do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 know that hounds have a good sense of smell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es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229600" cy="32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Wind _____ blow more in the river bottom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Wind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does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blow more in the river bottom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es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By late evening the happy tune _______sound happy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21:42:55Z</dcterms:created>
  <dc:creator>Gay  Miller</dc:creator>
  <dc:description/>
  <dc:language>en-US</dc:language>
  <cp:lastModifiedBy>RomaK</cp:lastModifiedBy>
  <dcterms:modified xsi:type="dcterms:W3CDTF">2015-09-02T09:41:51Z</dcterms:modified>
  <cp:revision>31</cp:revision>
  <dc:subject/>
  <dc:title>Slide 1</dc:title>
</cp:coreProperties>
</file>